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29424-AC6B-4C55-A31F-4CE70CDEE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38E7-0D91-4D8A-B01D-FABEE4403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89648-DED1-420A-8BB4-2B79B1F8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FB460-65B5-4C84-B562-627A08665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D67E8-9422-4122-895F-8FFDBE4FC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B0C27-1DB1-4372-9BAC-2A7D4F153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DF91E-355C-43BD-8ED6-7ECE85C4C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789EC-E226-4A28-A4C2-AA6DCE213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DDDEE-1D4D-4431-89ED-7F099F1EE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EE06C-559F-4BDD-B22B-387084E48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82E57-AF1B-403A-952F-929CEDAC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033D-19E9-4A08-9EF0-079DF65A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8DB0C-0E03-47CA-AC77-5F2F3EF1A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5D15F-FF24-4767-A3AE-D6527F549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D514E-00E3-4616-AAAF-61F27FC4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CC0DF-1DBF-494C-867C-910FD2B0A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C5C8E-83B9-4490-8ED8-9F4E14FFD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853A-0403-4CB8-A048-8A2F99455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1375-8413-48BD-BDFC-A68BC915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7F80E-118E-447A-93C8-91AB2357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30E7A-01A4-4BD2-AE31-1D8270137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84A9-C735-4D0B-B629-5C823A4F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75B8-2794-4E5B-B319-0459EA69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716E-163D-4BC6-9F72-F66D1A23E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2A92-19F3-4262-818A-DA2978FE5FA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3601-2A9C-41D7-BAF5-D5B087F188A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5235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19</a:t>
            </a:r>
            <a:r>
              <a:rPr b="1" lang="en-US" sz="5400" spc="-1" strike="noStrike" baseline="30000">
                <a:solidFill>
                  <a:srgbClr val="b9efee"/>
                </a:solidFill>
                <a:latin typeface="Garamond"/>
              </a:rPr>
              <a:t>th</a:t>
            </a:r>
            <a:r>
              <a:rPr b="1" lang="en-US" sz="5400" spc="-1" strike="noStrike">
                <a:solidFill>
                  <a:srgbClr val="b9efee"/>
                </a:solidFill>
                <a:latin typeface="Garamond"/>
              </a:rPr>
              <a:t> Century European Imperialism</a:t>
            </a:r>
            <a:endParaRPr b="1" lang="en-US" sz="5400" spc="-1" strike="noStrike">
              <a:solidFill>
                <a:srgbClr val="b9efee"/>
              </a:solidFill>
              <a:latin typeface="Garamond"/>
            </a:endParaRPr>
          </a:p>
        </p:txBody>
      </p:sp>
      <p:sp>
        <p:nvSpPr>
          <p:cNvPr id="115" name=""/>
          <p:cNvSpPr/>
          <p:nvPr/>
        </p:nvSpPr>
        <p:spPr>
          <a:xfrm>
            <a:off x="1981080" y="4191120"/>
            <a:ext cx="548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Out with the Old and in with the N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ough the Seven Years War, and the Revolutionary and Napoleonic Wars, France had lost most of its overseas territo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f French North America was lost to the British, Spanish and America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nch influence in India was lost after the Seven Years W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rench continued to have island colonies in the Caribbean on Guadeloupe and Martinique, as well as French Guiana in South America.</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frica, the French operated several coastal trading stations and exerted some influence in Egypt and the Middle East.</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30, the French slowly began acquiring territorial rights in Algeria and in Indochina.</a:t>
            </a:r>
            <a:endParaRPr b="0" lang="en-US" sz="3200" spc="-1" strike="noStrike">
              <a:solidFill>
                <a:srgbClr val="ffffff"/>
              </a:solidFill>
              <a:latin typeface="Garamond"/>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utch Coloni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utch, now a second rate power due to its small size and domination by surrounding powers protected what it had.</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ontinued to exploit what they could through trade and their island empire in the East Indies.</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revolt on Java between 1825 and 1830 was crushed, bring harsher rule by the Dut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ussian Expans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 was the only European power to aggressively continue its expansionist policies throughout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however, Russian expansion was over land and contiguous with its territo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n expansion came at the cost of the crumbling Ottoman Empire along the Black Sea, a power vacuum in Central Asia, and Chinese weakness along the North Pacific Coa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Russian Empire</a:t>
            </a:r>
            <a:endParaRPr b="1" lang="en-US" sz="4400" spc="-1" strike="noStrike">
              <a:solidFill>
                <a:srgbClr val="b9efee"/>
              </a:solidFill>
              <a:latin typeface="Garamond"/>
            </a:endParaRPr>
          </a:p>
        </p:txBody>
      </p:sp>
      <p:pic>
        <p:nvPicPr>
          <p:cNvPr id="145" name="" descr=""/>
          <p:cNvPicPr/>
          <p:nvPr/>
        </p:nvPicPr>
        <p:blipFill>
          <a:blip r:embed="rId2"/>
          <a:stretch/>
        </p:blipFill>
        <p:spPr>
          <a:xfrm>
            <a:off x="228600" y="1143000"/>
            <a:ext cx="876312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ustria, Prussia, and Italy</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half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overseas imperial expansion was not an option for Prussia, Austria, and the states of Ital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ussia and the Italian states were primarily concerned with domestic affairs (Rev. of 1848) and their unification movement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stria as well was concerned with internal affairs and any expansion came at the price of the Ottoman Empire in the Balkans.</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ew Imperialism</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late 1860s and 1870s, European powers began to reverse their disdain for obtaining formal colonie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period from 1870 to 1914, European nations (as well as the U.S. and Japan) would go on a colonization drive like never before.</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just a couple of decades, nearly all of Africa and large areas of Asia and the Middle East would come under European domin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tivations for New Imperialism</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ism and competition among states for additional territory was a major political and psychological factor.</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fluence of Social Darwinism pushed the “strongest to survive” and to dominate the weak.</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manitarian and religious considerations led to military interventions, missionary zeal, and the “civilizing” mission.</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ndustrial development caused the need for natural resources and new markets to sell in and inv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mperialism and European Society</a:t>
            </a:r>
            <a:endParaRPr b="1" lang="en-US" sz="40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ies in colonial possessions were often used as test beds for social policy at home; hospitals, schools, law enforcement, and infrastructure was often tested in colonie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erialistic ventures were used as nationalistic propaganda at home and was a way of forming national unity in the face of class tension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s often opposed imperial ventures where conservatives favored th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ia</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olidation of the British Raj continued as the British government expanded its formal rule over greater territories in northern and western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77, Queen Victoria was declared Empress of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rol expanded eastward into Burma, and Malaya and northward to the border with Afghanistan (created as a buffer against the Russia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ld Imperialism (to 1870)</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three quarters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uropean powers showed little interest in overseas expansion.</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act, it appeared that imperialism was on the way 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and political liberalism was largely against imperial ventures of political oppression and mercantilist t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67652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8" name="PlaceHolder 2"/>
          <p:cNvSpPr>
            <a:spLocks noGrp="1"/>
          </p:cNvSpPr>
          <p:nvPr>
            <p:ph/>
          </p:nvPr>
        </p:nvSpPr>
        <p:spPr>
          <a:xfrm>
            <a:off x="380880" y="1294920"/>
            <a:ext cx="6400800" cy="44960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ypt</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875, the British bought a 44 percent share in the previously French controlled Suez Canal (186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ritish took a greater role in Egyptian affairs until it was made a British Protectorate in 1882.</a:t>
            </a:r>
            <a:endParaRPr b="0" lang="en-US" sz="2400" spc="-1" strike="noStrike">
              <a:solidFill>
                <a:srgbClr val="ffffff"/>
              </a:solidFill>
              <a:latin typeface="Garamond"/>
            </a:endParaRPr>
          </a:p>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 and West Africa</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ast and West Africa, Britain expanded its old trading posts into full colonies, leading to conflict with the natives (example: Anglo-Zulu War of 187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d Gambia, Sierra Leone, The Gold Coast, Nigeria, Kenya, Uganda, and Somalia.</a:t>
            </a:r>
            <a:endParaRPr b="0" lang="en-US" sz="2400" spc="-1" strike="noStrike">
              <a:solidFill>
                <a:srgbClr val="ffffff"/>
              </a:solidFill>
              <a:latin typeface="Garamond"/>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9" name="Zulusmall" descr=""/>
          <p:cNvPicPr/>
          <p:nvPr/>
        </p:nvPicPr>
        <p:blipFill>
          <a:blip r:embed="rId2"/>
          <a:stretch/>
        </p:blipFill>
        <p:spPr>
          <a:xfrm>
            <a:off x="6781680" y="1905120"/>
            <a:ext cx="2222640" cy="2971800"/>
          </a:xfrm>
          <a:prstGeom prst="rect">
            <a:avLst/>
          </a:prstGeom>
          <a:ln w="0">
            <a:noFill/>
          </a:ln>
        </p:spPr>
      </p:pic>
      <p:sp>
        <p:nvSpPr>
          <p:cNvPr id="160" name=""/>
          <p:cNvSpPr/>
          <p:nvPr/>
        </p:nvSpPr>
        <p:spPr>
          <a:xfrm>
            <a:off x="6934320" y="4952880"/>
            <a:ext cx="1904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ttle of Rouke’s Drift in the Anglo-Zulu W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62" name="PlaceHolder 2"/>
          <p:cNvSpPr>
            <a:spLocks noGrp="1"/>
          </p:cNvSpPr>
          <p:nvPr>
            <p:ph/>
          </p:nvPr>
        </p:nvSpPr>
        <p:spPr>
          <a:xfrm>
            <a:off x="3200400" y="1294920"/>
            <a:ext cx="5486400" cy="5334120"/>
          </a:xfrm>
          <a:prstGeom prst="rect">
            <a:avLst/>
          </a:prstGeom>
          <a:noFill/>
          <a:ln w="0">
            <a:noFill/>
          </a:ln>
        </p:spPr>
        <p:txBody>
          <a:bodyPr lIns="90000" rIns="90000" tIns="46800" bIns="46800" anchor="t">
            <a:normAutofit fontScale="99000"/>
          </a:bodyPr>
          <a:p>
            <a:pPr marL="339480" indent="-3394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th Africa</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d by the efforts of imperialist and capitalist </a:t>
            </a:r>
            <a:r>
              <a:rPr b="1" lang="en-US" sz="2400" spc="-1" strike="noStrike">
                <a:solidFill>
                  <a:srgbClr val="ffffff"/>
                </a:solidFill>
                <a:latin typeface="Garamond"/>
              </a:rPr>
              <a:t>Cecil Rhodes</a:t>
            </a:r>
            <a:r>
              <a:rPr b="0" lang="en-US" sz="2400" spc="-1" strike="noStrike">
                <a:solidFill>
                  <a:srgbClr val="ffffff"/>
                </a:solidFill>
                <a:latin typeface="Garamond"/>
              </a:rPr>
              <a:t>.</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hodes made fortune in diamonds, discovered in Cape Colony in 1869.</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pressed for British expansion in Southern Africa.</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sions mounted in the 1880s with the discovery of gold in Transvaal, British prospectors moved in with the blessing of Rhodes, the PM of Cape Colony.</a:t>
            </a:r>
            <a:endParaRPr b="0" lang="en-US" sz="2400" spc="-1" strike="noStrike">
              <a:solidFill>
                <a:srgbClr val="ffffff"/>
              </a:solidFill>
              <a:latin typeface="Garamond"/>
            </a:endParaRPr>
          </a:p>
        </p:txBody>
      </p:sp>
      <p:pic>
        <p:nvPicPr>
          <p:cNvPr id="163" name="" descr=""/>
          <p:cNvPicPr/>
          <p:nvPr/>
        </p:nvPicPr>
        <p:blipFill>
          <a:blip r:embed="rId2"/>
          <a:stretch/>
        </p:blipFill>
        <p:spPr>
          <a:xfrm>
            <a:off x="304920" y="1752480"/>
            <a:ext cx="2950920" cy="44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oer War (1899-1902)</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ident Paul Kruger of Transvaal was convinced the British were going to annex their state, Kruger then tried to ally with Germany.</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nsions led to war in 1899.  The Boers led a determined guerilla war that lasted four years (first post-modern war?). The Boers were often placed in concentration camps.</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the end of the war in 1902 and the creation of the Union of South Africa in 1910, the Boers were integrated into the British Dominion and came to dominate 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67" name="" descr=""/>
          <p:cNvPicPr/>
          <p:nvPr/>
        </p:nvPicPr>
        <p:blipFill>
          <a:blip r:embed="rId2"/>
          <a:stretch/>
        </p:blipFill>
        <p:spPr>
          <a:xfrm>
            <a:off x="762120" y="936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 1914</a:t>
            </a:r>
            <a:endParaRPr b="1" lang="en-US" sz="4400" spc="-1" strike="noStrike">
              <a:solidFill>
                <a:srgbClr val="b9efee"/>
              </a:solidFill>
              <a:latin typeface="Garamond"/>
            </a:endParaRPr>
          </a:p>
        </p:txBody>
      </p:sp>
      <p:pic>
        <p:nvPicPr>
          <p:cNvPr id="169" name="" descr=""/>
          <p:cNvPicPr/>
          <p:nvPr/>
        </p:nvPicPr>
        <p:blipFill>
          <a:blip r:embed="rId2"/>
          <a:stretch/>
        </p:blipFill>
        <p:spPr>
          <a:xfrm>
            <a:off x="0" y="1219320"/>
            <a:ext cx="9144000" cy="43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the French extended their colonial control over North and Western Africa.</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eria was made a full colony, with large numbers of French settlers moving in to farm.</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was then extended to Tunisia and Morocco and large amounts of territory in French West Africa, Senegal, Guinea and the Ivory Coast, as well as Madagascar</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sia, French Indochina was colonized.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glo-French Conflict in Sudan</a:t>
            </a:r>
            <a:endParaRPr b="1" lang="en-US" sz="4400" spc="-1" strike="noStrike">
              <a:solidFill>
                <a:srgbClr val="b9efee"/>
              </a:solidFill>
              <a:latin typeface="Garamond"/>
            </a:endParaRPr>
          </a:p>
        </p:txBody>
      </p:sp>
      <p:sp>
        <p:nvSpPr>
          <p:cNvPr id="17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uprising in the Sudan under the leadership of the infamous Mahdi threatened British interests.</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Charles Gordon reached Khartoum in 1884 to evacuate the garrison but was besieged by the Madhi, the British troops were massacred.</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97, Lord Kitchener retook Khartoum. He then set off down the Nile with a flotilla of gunboats to confront French General Marchand at Fashoda. This precipitated the </a:t>
            </a:r>
            <a:r>
              <a:rPr b="1" lang="en-US" sz="3200" spc="-1" strike="noStrike">
                <a:solidFill>
                  <a:srgbClr val="ffffff"/>
                </a:solidFill>
                <a:latin typeface="Garamond"/>
              </a:rPr>
              <a:t>Fashoda Crisis</a:t>
            </a:r>
            <a:r>
              <a:rPr b="0" lang="en-US" sz="3200" spc="-1" strike="noStrike">
                <a:solidFill>
                  <a:srgbClr val="ffffff"/>
                </a:solidFill>
                <a:latin typeface="Garamond"/>
              </a:rPr>
              <a:t> when, ultimately unable to face a naval war with Britain, the French backed dow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ramble for Africa – Leopold II</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King Leopold II of Belgium began the process of creating a personal colony in the Congo Basin, the </a:t>
            </a:r>
            <a:r>
              <a:rPr b="1" lang="en-US" sz="3200" spc="-1" strike="noStrike">
                <a:solidFill>
                  <a:srgbClr val="ffffff"/>
                </a:solidFill>
                <a:latin typeface="Garamond"/>
              </a:rPr>
              <a:t>Berlin Conference</a:t>
            </a:r>
            <a:r>
              <a:rPr b="0" lang="en-US" sz="3200" spc="-1" strike="noStrike">
                <a:solidFill>
                  <a:srgbClr val="ffffff"/>
                </a:solidFill>
                <a:latin typeface="Garamond"/>
              </a:rPr>
              <a:t> made his acquisitions legal.  Leopold used forced labor in the production of rubber, ivory and minerals.</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international protests intensified, the Belgian government took control of the Belgian Congo in 19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cramble for Africa – Berlin Conference</a:t>
            </a:r>
            <a:endParaRPr b="1" lang="en-US" sz="3600" spc="-1" strike="noStrike">
              <a:solidFill>
                <a:srgbClr val="b9efee"/>
              </a:solidFill>
              <a:latin typeface="Garamond"/>
            </a:endParaRPr>
          </a:p>
        </p:txBody>
      </p:sp>
      <p:sp>
        <p:nvSpPr>
          <p:cNvPr id="1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nse rivalries among Belgium, France, Germany, Great Britain, Italy, Spain, and Portugal for additional African territory, and ill-defined boundaries of their various holdings, instigate the Berlin Conference of 1884-1885 (organized by Bismarck)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wers defined their spheres of influence and laid down rules for future occupation on the coasts of Africa.</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frican states were invited to the Berlin conference, and none signed these agree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mpire was the largest overseas empire in the early 19</a:t>
            </a:r>
            <a:r>
              <a:rPr b="0" lang="en-US" sz="2800" spc="-1" strike="noStrike" baseline="30000">
                <a:solidFill>
                  <a:srgbClr val="ffffff"/>
                </a:solidFill>
                <a:latin typeface="Garamond"/>
              </a:rPr>
              <a:t>th</a:t>
            </a:r>
            <a:r>
              <a:rPr b="0" lang="en-US" sz="2800" spc="-1" strike="noStrike">
                <a:solidFill>
                  <a:srgbClr val="ffffff"/>
                </a:solidFill>
                <a:latin typeface="Garamond"/>
              </a:rPr>
              <a:t> century, but there was little interest in further expansion.</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erican War of Independence still loomed over British colonial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Western Hemisphere, British control in Canada expanded westward, but discontent was growing.</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North America Act of 1867 established the Dominion of Canada (extensive autonomy in domestic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inued to control much of the Caribbea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frica</a:t>
            </a:r>
            <a:endParaRPr b="1" lang="en-US" sz="4400" spc="-1" strike="noStrike">
              <a:solidFill>
                <a:srgbClr val="b9efee"/>
              </a:solidFill>
              <a:latin typeface="Garamond"/>
            </a:endParaRPr>
          </a:p>
        </p:txBody>
      </p:sp>
      <p:pic>
        <p:nvPicPr>
          <p:cNvPr id="179" name="" descr=""/>
          <p:cNvPicPr/>
          <p:nvPr/>
        </p:nvPicPr>
        <p:blipFill>
          <a:blip r:embed="rId2"/>
          <a:stretch/>
        </p:blipFill>
        <p:spPr>
          <a:xfrm>
            <a:off x="1297080" y="457200"/>
            <a:ext cx="6289560" cy="64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end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very major European power had established spheres of influence in Chin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eakening of the Manchu dynasty made the situation wors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ewly industrial and imperialistic Japanese defeated the Chinese in the Sino-Japanese war of 1894-95, seceding further control of China’s terri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pic>
        <p:nvPicPr>
          <p:cNvPr id="183" name="" descr=""/>
          <p:cNvPicPr/>
          <p:nvPr/>
        </p:nvPicPr>
        <p:blipFill>
          <a:blip r:embed="rId2"/>
          <a:stretch/>
        </p:blipFill>
        <p:spPr>
          <a:xfrm>
            <a:off x="0" y="1828800"/>
            <a:ext cx="9144000" cy="405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gration</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same time Europeans were colonizing for nationalism, riches and religion, massed of people were migrating from Europe to other areas of the world.</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imates say that over 25 million people migrated from Europe between 1875 to 1914.</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half migrated to the Americas, others went to Australia, Africa, and As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ffects of Imperialism</a:t>
            </a:r>
            <a:endParaRPr b="1" lang="en-US" sz="4400" spc="-1" strike="noStrike">
              <a:solidFill>
                <a:srgbClr val="b9efee"/>
              </a:solidFill>
              <a:latin typeface="Garamond"/>
            </a:endParaRPr>
          </a:p>
        </p:txBody>
      </p:sp>
      <p:sp>
        <p:nvSpPr>
          <p:cNvPr id="18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mperialism had dramatic impact on Europe and the wider world.</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society was altered due to its predominate position, economic benefits and costs, external influences, and competition among state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lonized world was drastically changed, with European cultural, economic, and political ideas becoming the global nor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ositives and negatives for both sides are still very much debated today and still affect today’s wor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a:t>
            </a:r>
            <a:endParaRPr b="0" lang="en-US" sz="32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British had captured the Cape Colony during the Napoleonic Wars and trading stations along the coast.</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1820s, British settlers moved in, causing friction with the Boers (descendants of Dutch colonists who settled there in the 17</a:t>
            </a:r>
            <a:r>
              <a:rPr b="0" lang="en-US" sz="3000" spc="-1" strike="noStrike" baseline="30000">
                <a:solidFill>
                  <a:srgbClr val="ffffff"/>
                </a:solidFill>
                <a:latin typeface="Garamond"/>
              </a:rPr>
              <a:t>th</a:t>
            </a:r>
            <a:r>
              <a:rPr b="0" lang="en-US" sz="3000" spc="-1" strike="noStrike">
                <a:solidFill>
                  <a:srgbClr val="ffffff"/>
                </a:solidFill>
                <a:latin typeface="Garamond"/>
              </a:rPr>
              <a:t> century.)</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Great Trek of 1835-1837, Boers moved north and established the state of Transvaal and the Orange Free State.</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India, most of the British administration was controlled by the East India Company.</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57, Indian troops rebelled against British rule in the Great Mutiny (aka the Sepoy Rebellion).</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ccurred as a result of BEIC abuses, cultural frictions, and rumors of pig and cow fat used in powder charges (insult to Hindus and Muslims)</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the British government took direct rule of India in 1858 (British Raj)</a:t>
            </a:r>
            <a:endParaRPr b="0" lang="en-US" sz="2800" spc="-1" strike="noStrike">
              <a:solidFill>
                <a:srgbClr val="ffffff"/>
              </a:solidFill>
              <a:latin typeface="Garamond"/>
            </a:endParaRPr>
          </a:p>
        </p:txBody>
      </p:sp>
      <p:pic>
        <p:nvPicPr>
          <p:cNvPr id="124" name="" descr=""/>
          <p:cNvPicPr/>
          <p:nvPr/>
        </p:nvPicPr>
        <p:blipFill>
          <a:blip r:embed="rId2"/>
          <a:stretch/>
        </p:blipFill>
        <p:spPr>
          <a:xfrm>
            <a:off x="7010280" y="533520"/>
            <a:ext cx="2133720" cy="14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6"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na</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stablished a trade system of importing opium from India to China in return for tea during the 19</a:t>
            </a:r>
            <a:r>
              <a:rPr b="0" lang="en-US" sz="2800" spc="-1" strike="noStrike" baseline="30000">
                <a:solidFill>
                  <a:srgbClr val="ffffff"/>
                </a:solidFill>
                <a:latin typeface="Garamond"/>
              </a:rPr>
              <a:t>th</a:t>
            </a:r>
            <a:r>
              <a:rPr b="0" lang="en-US" sz="2800" spc="-1" strike="noStrike">
                <a:solidFill>
                  <a:srgbClr val="ffffff"/>
                </a:solidFill>
                <a:latin typeface="Garamond"/>
              </a:rPr>
              <a:t> century.</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e Chinese government attempted to stop this, Britain went to war with China in 1842 (the Opium War).</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a was quickly defeated, resuming the import of opium and Britain annexed Hong Kong in 1842.</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of further conflict, namely the Taiping Rebellion, China gave away more of its sovereignt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8"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also continued to control several key outposts.</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braltar and Malta in the Mediterran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en in the Red Sea</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ylon (Sri Lanka) in the Indian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gapore in the Pacific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tralia and New Zealand were growing colonies for British and Irish settlers.</a:t>
            </a:r>
            <a:endParaRPr b="0" lang="en-US" sz="2800" spc="-1" strike="noStrike">
              <a:solidFill>
                <a:srgbClr val="ffffff"/>
              </a:solidFill>
              <a:latin typeface="Garamond"/>
            </a:endParaRPr>
          </a:p>
        </p:txBody>
      </p:sp>
      <p:pic>
        <p:nvPicPr>
          <p:cNvPr id="129" name="" descr=""/>
          <p:cNvPicPr/>
          <p:nvPr/>
        </p:nvPicPr>
        <p:blipFill>
          <a:blip r:embed="rId2"/>
          <a:stretch/>
        </p:blipFill>
        <p:spPr>
          <a:xfrm>
            <a:off x="5715000" y="2286000"/>
            <a:ext cx="3267000" cy="2170080"/>
          </a:xfrm>
          <a:prstGeom prst="rect">
            <a:avLst/>
          </a:prstGeom>
          <a:ln w="0">
            <a:noFill/>
          </a:ln>
        </p:spPr>
      </p:pic>
      <p:sp>
        <p:nvSpPr>
          <p:cNvPr id="130" name=""/>
          <p:cNvSpPr/>
          <p:nvPr/>
        </p:nvSpPr>
        <p:spPr>
          <a:xfrm>
            <a:off x="6553080" y="4648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bral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32" name="" descr=""/>
          <p:cNvPicPr/>
          <p:nvPr/>
        </p:nvPicPr>
        <p:blipFill>
          <a:blip r:embed="rId2"/>
          <a:stretch/>
        </p:blipFill>
        <p:spPr>
          <a:xfrm>
            <a:off x="1219320" y="1371600"/>
            <a:ext cx="6781680" cy="515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Latin American Colonies</a:t>
            </a:r>
            <a:endParaRPr b="1" lang="en-US" sz="4400" spc="-1" strike="noStrike">
              <a:solidFill>
                <a:srgbClr val="b9efee"/>
              </a:solidFill>
              <a:latin typeface="Garamond"/>
            </a:endParaRPr>
          </a:p>
        </p:txBody>
      </p:sp>
      <p:sp>
        <p:nvSpPr>
          <p:cNvPr id="134" name="PlaceHolder 2"/>
          <p:cNvSpPr>
            <a:spLocks noGrp="1"/>
          </p:cNvSpPr>
          <p:nvPr>
            <p:ph/>
          </p:nvPr>
        </p:nvSpPr>
        <p:spPr>
          <a:xfrm>
            <a:off x="456840" y="1600200"/>
            <a:ext cx="6095880" cy="51055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ependence movements between 1804 and 1824 in Latin America proved for the rest of Europe what the American Revolution proved for the British.</a:t>
            </a:r>
            <a:endParaRPr b="0" lang="en-US" sz="3200" spc="-1" strike="noStrike">
              <a:solidFill>
                <a:srgbClr val="ffffff"/>
              </a:solidFill>
              <a:latin typeface="Garamond"/>
            </a:endParaRPr>
          </a:p>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ionalism and liberalism assured that Portugal would lose control of its vast territory in Brazil, France would lose Haiti, and Spain would lose the rest of Latin America, save Cuba and Puerto Rico (Spain also retained the Philippines in the Pacific).</a:t>
            </a:r>
            <a:endParaRPr b="0" lang="en-US" sz="3200" spc="-1" strike="noStrike">
              <a:solidFill>
                <a:srgbClr val="ffffff"/>
              </a:solidFill>
              <a:latin typeface="Garamond"/>
            </a:endParaRPr>
          </a:p>
        </p:txBody>
      </p:sp>
      <p:pic>
        <p:nvPicPr>
          <p:cNvPr id="135" name="" descr=""/>
          <p:cNvPicPr/>
          <p:nvPr/>
        </p:nvPicPr>
        <p:blipFill>
          <a:blip r:embed="rId2"/>
          <a:stretch/>
        </p:blipFill>
        <p:spPr>
          <a:xfrm>
            <a:off x="6400800" y="2057400"/>
            <a:ext cx="259236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3:09Z</dcterms:created>
  <dc:creator>MSJ</dc:creator>
  <dc:description/>
  <dc:language>en-US</dc:language>
  <cp:lastModifiedBy>RYAN FOLMER</cp:lastModifiedBy>
  <dcterms:modified xsi:type="dcterms:W3CDTF">2007-01-31T21:50:01Z</dcterms:modified>
  <cp:revision>26</cp:revision>
  <dc:subject/>
  <dc:title>19th Century European Imperialism</dc:title>
</cp:coreProperties>
</file>